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204B-6CD8-4B33-B11A-3BAD7E192F7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tent embassy was first stared in 1972 outside the parliament house in Canberra, because the land was important to Aboriginal people. It is made of a large group of activists 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Aboriginal people sets an embassy, because they want to show people how important the land was to them and also to show their righ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tent embassy was made outside the parliament house in Canberra, because the land was important to Aboriginal people. It is made of a large group of activists sig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Aboriginal people sets an embassy, because they want to show people how important the land was to them and also to show their righ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people are important to tent embassy, because they were the leaders, they were all aboriginals activities and both women and 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sign tells us that Aboriginal people had a very hard life. Eg: for their future children and their black un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36 years, which shows us that they don’t give and still fight for their la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9A3-014E-40DD-AC86-6C0E2E6F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A8E6-DA7B-4E9E-B2B1-01868C1E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D82-C854-41CF-B039-85D3CF5F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9E8-343C-4B89-AA8E-FE47B752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AB6-8C75-4FDF-AA44-73E94B1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2082-BDCD-4D31-847A-844B8CF0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5CA-1C04-4155-B775-081EDDBC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C79-51F2-42D1-A908-4519C31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7BA-AA77-4787-B27C-EEDB97AF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EEC-DB0C-4AEC-B498-A23A264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CCD-09ED-4E1F-928F-61F31D1B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A4D-0DB5-455E-B6FE-F36268C6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3A4-C6D6-4BE5-97D1-B46EE9B6328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ary_Foley" TargetMode="External"/><Relationship Id="rId2" Type="http://schemas.openxmlformats.org/officeDocument/2006/relationships/hyperlink" Target="http://en.wikipedia.org/wiki/Chicka_Dixon" TargetMode="External"/><Relationship Id="rId3" Type="http://schemas.openxmlformats.org/officeDocument/2006/relationships/hyperlink" Target="http://en.wikipedia.org/wiki/Pearl_Gibbs" TargetMode="External"/><Relationship Id="rId4" Type="http://schemas.openxmlformats.org/officeDocument/2006/relationships/hyperlink" Target="http://en.wikipedia.org/wiki/Paul_Coe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659640" y="549360"/>
            <a:ext cx="12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Edwardian Script ITC"/>
              </a:rPr>
              <a:t>Th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76720" y="1916280"/>
            <a:ext cx="35402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Edwardian Script ITC"/>
              </a:rPr>
              <a:t>Aboriginal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32360" y="4653000"/>
            <a:ext cx="345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Edwardian Script ITC"/>
              </a:rPr>
              <a:t>Embass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5229360"/>
            <a:ext cx="29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By: Malaz &amp; </a:t>
            </a:r>
            <a:r>
              <a:rPr b="1" lang="en-US" sz="1200" spc="-1" strike="noStrike">
                <a:solidFill>
                  <a:srgbClr val="000000"/>
                </a:solidFill>
                <a:latin typeface="Forte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Started in 1972 on 26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Januar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en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Outside Parliament, Canber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Edwardian Script ITC"/>
              </a:rPr>
              <a:t>Why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ht fai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i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ght for their Repa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ack 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d to discr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989000"/>
            <a:ext cx="51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20500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844640"/>
            <a:ext cx="9288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ary Fol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icka Dixon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arl Gibbs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aul Co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994360" y="0"/>
            <a:ext cx="314964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427640" y="1773360"/>
            <a:ext cx="2104920" cy="189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6516720" y="2637000"/>
            <a:ext cx="2309760" cy="3024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500720" y="3573360"/>
            <a:ext cx="191124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go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n’t give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 for their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14:36Z</dcterms:created>
  <dc:creator>Reservoir District Secondary College</dc:creator>
  <dc:description/>
  <dc:language>en-US</dc:language>
  <cp:lastModifiedBy>DE&amp;T User</cp:lastModifiedBy>
  <dcterms:modified xsi:type="dcterms:W3CDTF">2008-06-05T05:00:50Z</dcterms:modified>
  <cp:revision>4</cp:revision>
  <dc:subject/>
  <dc:title>Slide 1</dc:title>
</cp:coreProperties>
</file>